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157A-4BC9-42D7-A65A-6FD15B22C2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6F7-1F2C-420C-913C-38302118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52D-81E2-4422-B77F-1727C96B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98B-833C-4CC1-869D-C358F659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0EB-05DC-40BC-86E8-FA19A5E4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1FCD-7D8F-481A-A1DB-E8F8461D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92D3-35E6-4FE2-B1B6-411D43E4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514F-2BB0-4C01-B722-AA4BEBED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3B12-E6AA-4CD0-AC7C-98612C21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DADA-9FCD-4726-A00F-D390F25D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AF6E-0BCE-4533-960D-127C3494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C7C3-0B05-4454-9956-53C4666D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03C-7422-4BBC-ADBF-ECD0D29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C631-1C58-4BB5-8735-DBE5A9ED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EB00-2B10-4776-90F0-B678543D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9B52-3CDA-40C8-8C0F-6493BF34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DD74-24FD-4C44-873C-0389AF32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4C54-8BB0-46B8-93D1-8834FA27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366-BD2D-488B-A240-6095BCA2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24A-8FE3-4B1C-A6E7-03FBC876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EF1-B730-4DB7-8ED1-825BA8C7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CC9-2345-40E2-B789-BF186CA9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7D2-A322-4DB4-AFBC-57F62B2C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DDB-E873-45A8-BFE0-333D6A0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778-6D1C-4A0E-A023-041CF7F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6F30-60D5-46F9-A2FA-45DB195E5A2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FB47-3DE6-4CFE-8248-2613CA1D7C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35F0-42E4-4ADF-8342-95E503A1C94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1628-84F1-4620-BAFA-A1FD172D1A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0:49Z</dcterms:modified>
  <cp:revision>25</cp:revision>
  <dc:subject/>
  <dc:title>Роль права в жизни общества</dc:title>
</cp:coreProperties>
</file>